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0B3-06A4-4CAB-AD63-FD27EFA5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3FA-3BE7-4762-9AEB-1E51C0A4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C44-CD0D-424C-BF07-A91752D5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AA4-6C0D-4E6C-9388-56528073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153-FCB4-464A-85C5-27D56DF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199-2F5A-44C3-ACEB-B3AB778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40F-0BAE-4FFC-A4CD-8481A8C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DC7-1FF5-4685-A440-68E8C61E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BF6-844C-47DD-9E60-D60CB086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B45-CF6D-469A-AEBB-6586F43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B15-809F-46D7-A4EB-4BFB518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094-0770-4F7A-90EB-3FD7D66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CC3-93FD-4EEF-8A0B-E4845A755E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UF 11 – poglądowa mapa „Blue Zon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 – oznaczona kolorem niebie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wojciech_porczyk\Desktop\PRZETARGI\LOGISTYKA\SOPZ - konspekt\ZALACZNIKI\Do SOPZ\mapy\Mapa Strefa Blue Zone WUF 11_punkt kontrolny.png"/>
          <p:cNvPicPr/>
          <p:nvPr/>
        </p:nvPicPr>
        <p:blipFill>
          <a:blip r:embed="rId1"/>
          <a:stretch/>
        </p:blipFill>
        <p:spPr>
          <a:xfrm>
            <a:off x="1042920" y="1089000"/>
            <a:ext cx="74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4:37:43Z</dcterms:created>
  <dc:creator>Pniak Janusz</dc:creator>
  <dc:description/>
  <dc:language>en-US</dc:language>
  <cp:lastModifiedBy>Wojciech Porczyk</cp:lastModifiedBy>
  <dcterms:modified xsi:type="dcterms:W3CDTF">2021-07-13T14:39:44Z</dcterms:modified>
  <cp:revision>17</cp:revision>
  <dc:subject/>
  <dc:title>Internet Governance Forum 20202</dc:title>
</cp:coreProperties>
</file>